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867-4133-450E-9602-D83DB20B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B85-F6F0-47D1-8926-5117AB7A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87CC-C20A-4850-A065-AB5E3548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06D5-7650-49F2-B5DD-5BF62CC6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24A-CBFB-42BA-97B1-BD1E7984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73CB-FEA3-47E3-9753-DE3587C8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520-657A-4340-8DB0-064F5F28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7990-DC6E-41DD-BA27-47D166D2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44E-E824-4E33-8B81-698591EB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BACD-EAE2-4FCB-9182-D8359925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D7F-A971-4313-A1AC-2AC51CC2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95C3-487F-4647-AA7D-0FE949CB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E958-2037-4AE4-8548-3FF0B6778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Стоматологиј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ЕФИНИЦИЈ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томатолог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заснована на доказима је “пажљива, промишљена употреба најбољих доказа из медицинске литературе у доношењу одлуке о лечењу конкретног болесника. То значи да се индивидуално клиничко искуство интегрише са најбољим клиничким доказима из систематског истраживањ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Шта то практично значи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Код нашег пацијента постоји одређени здравствени проблем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Прво треба да проблем прецизно дефинишемо. На пример: “Да ли постоји дијетални суплемент који може да снизи повишени артеријски притисак код одраслих пацијената са есенцијалном хипертензијом у фази 1.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Затим налазимо све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</a:rPr>
              <a:t>клиничке студије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које су публиковане на ту тему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Шта то практично значи? - настава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д пронађених публикованих студија издвајамо само оне које су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етодолошки исправно урађен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(дакле валидне) и чији резултат је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линичк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начај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 основу издојених студија формулишемо решење проблема пацијен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имењујемо решење на пацијент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Суштина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Стоматологије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 засноване на доказим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ЗД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томатологија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заснована на доказима је интеграција клиничког иску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система вредности пацијента и најбољих доказа из литератур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окази сами по себи не доводе до закључа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већ само помажу у одређивању најбољег третмана пациј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Примен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ЗД обично се започиње приликом прегледа пацијен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када се генеришу питања о ефектима лече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корисности дијагностичког теста или прогнози болес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Д захтева нове вештине од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томатол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: претраживање литературе и примену формалних правила за евалуацију доказа из литературе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Зашто </a:t>
            </a: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Стоматологиј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заснована на доказим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 свака 3 пацијент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оматол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у просеку генерише 2 питања на која не може да пружи одгово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 1900. години било је око 10,000 научних часописа; у 1990 било је више од 100,000 научних часописа; 90% свих најкрупнијих открића у науци је објављено у 150 од ових 100,000 публикација; 80% цитата које нотира С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јенс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Цит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јш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Инд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е налазе у мање од 1,000 часопис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Алтернатива Медицини заснованој на докази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9687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А ЗА КЛИ-НИЧКЕ ОДЛУ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К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АВА ЗА МЕРЕЊ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ЈЕДИНИЦА МЕ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миненциј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сјај седе кос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миномет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ичка густи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с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убина глас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удиомет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цибел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оквенциј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штина гово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зомет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кор лепљив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леганциј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ста одећ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ни ви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мани -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виђењ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во видљиве религиозн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кстант за мерење угла коле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ђународне јединице пијете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учешћ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во жалос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хиломет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да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рвоз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во фобије од тужбе за несавесно лечењ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аки могући дијагностички тес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ње на рачуну у банц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дицина заснована на </a:t>
                      </a:r>
                      <a:r>
                        <a:rPr b="1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поуздању</a:t>
                      </a: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изичне интервенциј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ст знојењ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ма знојењ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74"/>
          <p:cNvSpPr/>
          <p:nvPr/>
        </p:nvSpPr>
        <p:spPr>
          <a:xfrm>
            <a:off x="1467720" y="6597720"/>
            <a:ext cx="59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zgerald D, Isaaks D. Seven alternatives to evidence based medicine. BMJ 1999; 319: 16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3-01-27T13:14:54Z</dcterms:modified>
  <cp:revision>56</cp:revision>
  <dc:subject/>
  <dc:title>Slide 1</dc:title>
</cp:coreProperties>
</file>